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5B1-294F-4B80-B66E-D68052FB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9C5-EFC9-4D6F-9A61-D8559D8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2A5-0DD3-4A0C-ABAE-D31607DB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0F6-9737-4C5B-B22A-B89F9C30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5A5-08B4-472D-B2BD-9CF42D6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9E4-7993-4A19-B47C-99D77A5E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823-632A-472D-91B3-1B208F48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F9F-F222-4CE4-9BA6-7D9AA15C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96E-5A49-4AB8-911A-EED0CD60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ACE-7F0F-43F5-A716-1E5B1AD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BDF-78AD-4E1C-884B-FE5E49A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1A8-8ECD-4F00-9783-85E62365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66496-BC7E-4C04-A182-B50B9933B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67E2-8174-4FB1-8834-05AE6F0D9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87600" y="12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狗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74960" y="-176040"/>
            <a:ext cx="534024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676320" y="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直小人猴子攻击穿集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784320" y="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直小人猴子逮持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06880" y="-85680"/>
            <a:ext cx="86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Help, Hel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2880720" y="142920"/>
            <a:ext cx="34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79296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个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259160" y="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应为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469320" y="3808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980760" y="4525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3-10T20:07:20Z</dcterms:modified>
  <cp:revision>6</cp:revision>
  <dc:subject/>
  <dc:title>Fireball</dc:title>
</cp:coreProperties>
</file>